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C54-6411-4B12-B294-081B69C5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E49-44DA-4A61-8C5E-212959D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1AD-633A-4EF8-9445-FA0ADADC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F39-1AFF-4398-9FAB-FDA87EF1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B40-55D0-4F80-B81C-9211C375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D00-087F-4272-911F-76924E0F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E24-5271-49F0-95D7-2A423B6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D82-EFA1-477F-89D5-C766223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A4B-67D1-4494-82B4-10A6576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434-447B-46D4-9DD1-B47625D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972-0335-47D8-8C08-E6258A75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AC2-B9FE-4158-9EB2-FF3206FA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658008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C469-ACD3-4029-A0B6-022DD23767E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72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30Z</dcterms:modified>
  <cp:revision>55</cp:revision>
  <dc:subject/>
  <dc:title>幻灯片 1</dc:title>
</cp:coreProperties>
</file>